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CE7-6B46-4ECC-BE62-E4B444E2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772-37D7-45E7-BC21-3CF1772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A77-6468-41E9-960E-D247229F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76F-394B-4FF7-8439-429F6CDB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4C7-69F9-4E40-8023-70719274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077-6B8C-4F08-ABBF-04D42785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9E7-C912-46BC-9787-D066CE1C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979-00D5-492D-A964-79232CAF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B9A-2E2E-4DAA-B599-F2DDC60D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AE8-8DA4-4820-9602-D89E812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117-C4CC-471C-9EC3-FDCAFFB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525-8DA6-462B-AEC3-BBB9AAA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B4A1-3A72-44AD-8A52-4174C7A2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DanCorwi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xikos.com/agency.jsp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ther 3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 system AP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offer data to EMRwrapp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ur 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9:40:29Z</dcterms:modified>
  <cp:revision>31</cp:revision>
  <dc:subject/>
  <dc:title>COI Architecture? </dc:title>
</cp:coreProperties>
</file>